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CD5-B3B0-422D-AAFF-40C6B978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752-64E4-4ADF-95BB-0D7E4302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5E2-F58C-46A8-893C-3D074A6B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B1E-6AC9-4557-8A78-0128A064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3E26-FE34-47B4-BD03-2E0CB798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940A-0778-4222-AAB6-57A36BCF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4BA8-02C9-4D2D-9DB5-540E319C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79CE-A7D3-4EDF-86AF-4E055197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DD8F-21FC-4E0E-A398-D5609BCC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D3C4-2EEB-4412-BEBA-BBF11418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A415-4EB8-4624-890B-8D6AA15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C1F-0219-490E-8A50-3B6AEEF7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B633-9367-405F-A9FC-3414888C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E1FD-911C-4463-93D7-55A6FE8C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574-3BCE-4A8A-91F6-1A62BCCC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06DE-7D78-4912-BC5B-22F10169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F742-4C09-420F-83E8-F10204EE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BA2-83DF-4B53-8548-D4C18F4D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772-509A-4651-B85D-A5A756B4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546-A95D-455E-94C3-98C1E209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DE6-196C-4F90-8136-19792425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DAB-AA71-4BBD-91C9-AABDBF22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52C-6F12-4968-A02C-BD7930C2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0D4-A910-46B3-AD0B-865ECBC1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6564-A471-44BB-9DCC-681DCEB9C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5735-ED18-4D0A-8D99-A71D10EFC5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Black   Widow  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Kirsten Mi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54348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HEY  YOU…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o  you want to come look at the black widow spider?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191120" y="3200400"/>
            <a:ext cx="476244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0880" y="4048200"/>
            <a:ext cx="381024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RNING!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  Black  Widow  spider  can  cause dea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57840" y="2590920"/>
            <a:ext cx="428616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Black Widow Spider"/>
          <p:cNvPicPr/>
          <p:nvPr/>
        </p:nvPicPr>
        <p:blipFill>
          <a:blip r:embed="rId2"/>
          <a:stretch/>
        </p:blipFill>
        <p:spPr>
          <a:xfrm>
            <a:off x="1066680" y="2895480"/>
            <a:ext cx="381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d you k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3313080"/>
            <a:ext cx="80074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Black Widow spider  bites you it gets poison in you and cause death.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86200" y="44956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is is how long ago the  black widows lived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 spider  lived   300  million years  a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4000680" cy="2400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34858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ir  are   spiders  all  arou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86080" y="214308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12:58Z</dcterms:modified>
  <cp:revision>9</cp:revision>
  <dc:subject/>
  <dc:title>Animal Name</dc:title>
</cp:coreProperties>
</file>